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68E-15A0-4C38-98B7-08B63C1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3CB-0AB5-45DC-B743-3097634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BED-979F-44E0-9326-C51B703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E3F-9E66-485A-A890-B5EEC6D3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D07-061B-4FE7-8E3A-5C11023D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A56-D9A6-4F95-A851-90D1C871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50-15A8-4FA0-8152-04825255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62A-1D41-4F0D-A263-CA979AC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2C2-4834-412B-AD8B-0DFF1E2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893-DCE9-4F3F-BF8F-850CD0DA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EFA-C347-4211-A491-62E265D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282-231E-4085-B314-4996679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9F5-4555-45E0-943C-B25845B5B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57D-B223-440F-8C73-C60CA44B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port privind preg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rea lotului lărgit al României în vederea participării la competiţiile internaţ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572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Impact"/>
              </a:rPr>
              <a:t>PUNCTE 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ta unei pregătiri intense calitativ superioare prin Centrele de excelenta judeţene şi regi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aborarea unor subiecte unice la etapa judeţeană, ceea ce a permis de timpuriu selectarea elevilor cu reale calităţi pentru studiul fizic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ţa unor colective de elaborare a subiectelor din care pentru gimnaziu au facut parte şi profesori din învăţământul liceal, iar pentru liceu au făcut parte şi profesori din învăţământul universi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ţia riguroasă a lotului lărgit de fizic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ul de pregătire centralizat - în care dimineaţa s-au studiat teme teoretice din programa pentru Olimpiada Internaţională iar după amiaza s-au propus şi rezolvat probleme având la bază tematica studiată în cursul dimineţ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enţa unei stagiu anual de pregătire împreună cu lotul Ungariei şi conlucrarea excelentă între profesorii români şi cei maghia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ocarea unei perioade de două săptămâni pentru pregătirea lotului restrâns al Români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72_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99072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838080"/>
            <a:ext cx="723888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UNCTE SL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existenţa unui laborator performant pentru pregătirea experimentală a lotul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ţiul de cazare deficitar sub aspectul asigurării confortului necesar unei astfel de solicitari şi al studiului 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existenţa unei reglementări care să permită o mai bună motivare sub aspect material a profesorilor care participă la această pregatire atât în Centrele de excelenţă de la nivelul judeţului cât şi în perioada de pregătire a lotului naţiona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24_" descr=""/>
          <p:cNvPicPr/>
          <p:nvPr/>
        </p:nvPicPr>
        <p:blipFill>
          <a:blip r:embed="rId1"/>
          <a:stretch/>
        </p:blipFill>
        <p:spPr>
          <a:xfrm>
            <a:off x="7010280" y="0"/>
            <a:ext cx="1114560" cy="15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B03-3327-4090-8C71-05E4347E1996}" type="slidenum">
              <a:t>2</a:t>
            </a:fld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REZULTATELE</a:t>
            </a: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la concursul de selec</a:t>
            </a:r>
            <a:r>
              <a:rPr b="0" i="1" lang="ro-RO" sz="2400" spc="-1" strike="noStrike">
                <a:solidFill>
                  <a:srgbClr val="800000"/>
                </a:solidFill>
                <a:latin typeface="Monotype Corsiva"/>
              </a:rPr>
              <a:t>ţ</a:t>
            </a:r>
            <a:r>
              <a:rPr b="0" i="1" lang="en-US" sz="2400" spc="-1" strike="noStrike">
                <a:solidFill>
                  <a:srgbClr val="800000"/>
                </a:solidFill>
                <a:latin typeface="Monotype Corsiva"/>
              </a:rPr>
              <a:t>ie al lotului restrâns pentru IPhO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62320" y="1828800"/>
          <a:ext cx="6095880" cy="524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09588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4D0-0E34-4F1F-9E77-17CCB922B6DE}" type="slidenum">
              <a:t>3</a:t>
            </a:fld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382680"/>
          <a:ext cx="914400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268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95280" y="1905120"/>
            <a:ext cx="1524240" cy="685800"/>
          </a:xfrm>
          <a:prstGeom prst="wedgeEllipseCallout">
            <a:avLst>
              <a:gd name="adj1" fmla="val 42189"/>
              <a:gd name="adj2" fmla="val 86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52480"/>
            <a:ext cx="1447920" cy="609840"/>
          </a:xfrm>
          <a:prstGeom prst="wedgeEllipseCallout">
            <a:avLst>
              <a:gd name="adj1" fmla="val -29712"/>
              <a:gd name="adj2" fmla="val 8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600200"/>
            <a:ext cx="1524240" cy="685800"/>
          </a:xfrm>
          <a:prstGeom prst="wedgeEllipseCallout">
            <a:avLst>
              <a:gd name="adj1" fmla="val -68231"/>
              <a:gd name="adj2" fmla="val 95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1447920"/>
            <a:ext cx="1447920" cy="609480"/>
          </a:xfrm>
          <a:prstGeom prst="wedgeEllipseCallout">
            <a:avLst>
              <a:gd name="adj1" fmla="val -122699"/>
              <a:gd name="adj2" fmla="val 18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1981080"/>
            <a:ext cx="1447920" cy="609840"/>
          </a:xfrm>
          <a:prstGeom prst="wedgeEllipseCallout">
            <a:avLst>
              <a:gd name="adj1" fmla="val -59541"/>
              <a:gd name="adj2" fmla="val 7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FB6-C7B6-4D54-B1E1-7C6499BCB8A5}" type="slidenum">
              <a:t>4</a:t>
            </a:fld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382680"/>
          <a:ext cx="9144000" cy="60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268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52480" y="2209680"/>
            <a:ext cx="1447920" cy="609840"/>
          </a:xfrm>
          <a:prstGeom prst="wedgeEllipseCallout">
            <a:avLst>
              <a:gd name="adj1" fmla="val 15898"/>
              <a:gd name="adj2" fmla="val 1197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752480"/>
            <a:ext cx="1447920" cy="609840"/>
          </a:xfrm>
          <a:prstGeom prst="wedgeEllipseCallout">
            <a:avLst>
              <a:gd name="adj1" fmla="val -17435"/>
              <a:gd name="adj2" fmla="val 1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86000"/>
            <a:ext cx="1447920" cy="609480"/>
          </a:xfrm>
          <a:prstGeom prst="wedgeEllipseCallout">
            <a:avLst>
              <a:gd name="adj1" fmla="val -16555"/>
              <a:gd name="adj2" fmla="val 80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438280"/>
            <a:ext cx="1600200" cy="609840"/>
          </a:xfrm>
          <a:prstGeom prst="wedgeEllipseCallout">
            <a:avLst>
              <a:gd name="adj1" fmla="val -54662"/>
              <a:gd name="adj2" fmla="val 12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1524240" cy="609480"/>
          </a:xfrm>
          <a:prstGeom prst="wedgeEllipseCallout">
            <a:avLst>
              <a:gd name="adj1" fmla="val -32393"/>
              <a:gd name="adj2" fmla="val 107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ificat IP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rsu Steli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226-6B81-416D-9659-A5E68CAC5C38}" type="slidenum">
              <a:t>5</a:t>
            </a:fld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8:18:46Z</dcterms:created>
  <dc:creator>ursu stelian</dc:creator>
  <dc:description/>
  <dc:language>en-US</dc:language>
  <cp:lastModifiedBy>ursu stelian</cp:lastModifiedBy>
  <dcterms:modified xsi:type="dcterms:W3CDTF">2004-01-21T11:02:38Z</dcterms:modified>
  <cp:revision>7</cp:revision>
  <dc:subject/>
  <dc:title>No Slide Title</dc:title>
</cp:coreProperties>
</file>